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1C889-D496-47C6-B417-A9AFB63DE2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A7865-EE1D-443C-9EC2-2ADDDD8B1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AAF4F9-ABAA-419C-9DA8-90979589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1BD9DC-D806-42EF-8F11-B9E6DD7FD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62BCB63-EE79-447D-AC74-0E0FFCA13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413E4C-DD6B-4786-AE96-855984C8A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4F5E2E-D255-4947-9D53-3FF911E5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EEBD21-2ADD-4E63-A551-8ACB7AAB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9E6B59-217B-44F2-9C77-F4328B966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9A116AE-1444-4EEA-A27D-44C23381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E816D91-700D-4D9A-B54F-76B0C730E4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C6A8AE-1130-4671-91FB-7B4D942071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8F1B5-EDAC-43E4-A404-74B40E3A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82C6BB-73AB-40E9-9652-37EF73C9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A9E3A-F2C2-4672-99F1-6301167B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B688E-13EC-4280-A82D-3B71BB55D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89B8A-0160-4C06-9BB2-6EA9175E7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0FB53-5A0B-4D58-A22A-F70F30509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6A6F8-5E85-4078-BB0B-73A4A3A7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46CD4-EA61-40C5-8FBD-CD43A1148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528A6-A977-45DE-A319-42EF10363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2AE99-D9DD-4669-971B-690FEF00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77E7A-69DD-4848-B900-45F56EFE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12BE6-42E6-48AD-8237-A1D6CB8004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CF1017-7850-45FF-846C-A55DEF19C1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81259E5-6DD1-4B0A-8283-C06A7FF109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CD54B2-F7F1-4BC6-B96D-6DAA612B0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D903337-C663-47AD-A464-BD1963C43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ACD31FE-32E5-4553-B3F6-A92FC4B50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CFAE7E-0570-467E-86F7-61F52A94A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57DF21-CD1C-4DC4-B82C-3B49D7EC2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128926-655C-4D35-B173-412182C3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D25849-0C6D-436F-B1DF-38B68DCA0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7989FCA-D74D-4E91-97AA-B4A7F510A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97C8AC-1E17-404C-8323-D57523D89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70219B1-6EE2-477D-9026-00B8280E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C5A63F-B9A1-489A-A9C4-A2EE8FC2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557584-0BE8-4A30-9727-3EC28A3B85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D9CB0E-B619-463C-95E6-71977A703B5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AA41E1-69FE-4AE1-9C68-43B4636E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D6104E-5C16-47D5-963C-61D5BE6C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152A36-3D87-4305-A35C-E2B52AE19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82A450-89B5-4F53-8E26-522EC65BB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8403D0-2192-49E2-9C6E-FFD3A67EA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A21F2E-731A-4D57-AC35-B869DD5B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A1145-B4E3-4BFB-B8BE-82C2D0B47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436A7D-CEDC-4647-A797-0CD60AAD6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843235-80E8-4C90-8EA1-97431B8B8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E73A21-684A-4BFD-9855-5FA514B2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927B51-CC76-4D13-8C76-371E0A7E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D07208-5692-426F-A9CA-CD0A8E27E7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B8FBD3-15CF-4E59-AEE1-92691A5728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03A05-A1A6-4C3C-BF47-11D1DF03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25361D-6DD7-45A9-B48A-9FB3B267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44898E-7D9C-49C2-B25A-E31BB8C8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EE2267-37CA-4B07-AB15-EF15D0DA3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7A4138-AA31-44C3-A118-A0A3BBAF1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2EA672-212D-40D0-96FB-DC65AA7E2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0FA9DB-BA61-43BF-B811-2B52A910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201167-5ACB-44FC-9201-38B0C8DD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F5AD66-2019-4169-92A4-5AC49245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582B9B-381B-4222-BC4E-D5A6F3D9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48BD7F-9B36-4618-8024-BEBDA58B3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EFAE38-0468-4B0A-B8BA-F4E82A2D52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16997C-B958-462A-A5C5-9256EA135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5CEA93-E701-4D29-A876-FF499208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19EBB6-9E1C-4664-B286-68BEAD3B1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AD474D-C644-476C-8FDC-99BF00309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53F7ED-962B-4DA5-8BA1-4654316A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23905E-FB80-45F6-BB2D-989AA602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259B7D-202A-4EC6-A130-702998AA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8FD22D-5F2C-48BE-ACFF-66EB1FD9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71D949-A7AE-4576-86B9-F51E37BC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6B8A52-9A01-48CB-A031-EB993F04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075FB9-99C1-435B-927E-AA30B9903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254EDC-1956-4E48-8D65-09701C400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1BC851-CBF5-4CD6-8F23-745F2F755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166F6-471D-4FBB-8EED-67F07C445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643F8-3032-4B4C-83EC-036CEA7E7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9B361E-CC05-4279-B11A-0EA161BDF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B97C08-E3B4-4D5E-807E-76416130E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F11834-ED9D-4CB0-BAD8-4F3F1FC9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A47E7C-BA58-4C90-B537-9B36D46D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325BFC-856B-4652-A55D-F892554E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DEEC87-0289-4B38-A7D7-37E2A9BA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90139A-E3C8-4EA3-A6EE-8AA8A239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E70E1B-FC0D-4EF8-83E6-BE04D74C8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98BDEE-350E-4B61-9F46-94A533D8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576F5-B3AC-485C-AD5B-0906117F2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5787EC-317B-4DC8-B78A-28FE25C58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7786E0-9466-41E2-957C-D622F72C5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44759A-9609-4221-8202-9C52A559B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E53A45-928F-4042-BCCE-B8834DDEE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80F392-2C53-4F81-B832-49142F973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B4D204-EC57-42A4-A7E4-A7446BA13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DB202C-4FB1-4F3C-8DAC-A1B68D511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36443B-AEE2-4842-9E7F-56D10982C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7688F3-5980-48AF-A125-C590BEC6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0C35D3-C4C9-4C19-A0B7-85EEA6D9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A6092B-ECF1-46AD-BD50-F1A8C352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8CB87-B921-4DBA-A8E3-8893E4BD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B8BF65-12A8-47A0-A596-9806F5BE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2A6041-D84A-4E0D-94AD-D8DAF8E11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02AFF9-FF77-480B-B4E6-348063109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462548-794F-45EC-AF97-0E7D6F5AB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572B9B-D1FD-4D26-BD89-BA5A1941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A7AA19-EDF5-410E-BA58-18D107CC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3509EF-25C4-4A97-A041-CDC8E260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07E4DC-1822-4E29-9C24-03C25DFB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20FCFF-CFE3-4CFE-8834-11B78FAEF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EAACC5-EE59-45B6-947D-6B3ADBA4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86FE6-BA30-4012-BD11-0E70F9B05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FAA2D5-D4D6-4D03-9210-DCD312DA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A5B3FB-8670-4DDB-924D-58652D9D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B8F903-F1E5-471A-86DC-E16E611C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7BDF2E-13FE-4E7D-A88D-5494D1C85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5071C8-05EF-41BD-824D-F518B1A33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EF9BA9-528E-4096-9B40-31386031E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6A6F6E-6475-4B36-A42E-D9BE14E7B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8EC2C3-5A0E-46C8-97F1-13951B8F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73213D-DAFC-4DFF-8F1C-BAFDDE99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B9BA22-09D2-45C3-9587-D128AFEE1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3C3DDA-A5FA-40D6-81AE-6C96F78F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F67397-14A2-4E03-BF63-3BE8D511F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F42B73-63F2-4A3F-B99F-91AAEB54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E01E05-BF5A-4640-A917-F83842E8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761A84-9EB6-4F1F-BA0C-3322AD24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BCA825-A844-402C-A28D-06F8C78A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847C14-4541-45B6-88ED-543899C69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333C0D-1C13-4B1B-A2B6-309366EAC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21345E-CC66-4275-8C7F-119E516EE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57B3F5-2AD1-4EAE-8F0F-22C9BBE3F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F4C702-A50D-459A-897E-6D71CDE7C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A0D003-D1E7-472D-9D72-7F51D6D3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5F8C5-EA83-407E-B5D7-4D16F841B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4B73B8-BA8B-4F28-BBC8-96C8655AF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77D838-DE07-49CB-BFE3-F66745504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00884C-579F-43F1-AF94-D923E9E81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E2B2BC-CAB2-4916-BD7B-62513C5B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2D835D-5E54-41C5-B97D-91A34F0D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960C54-B787-41A0-93EA-64859248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D2E8EC-8125-4167-847A-5C1EEB41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57F65C-A853-45E9-81CC-A7CA497BD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7A8D9E-D2CC-4065-852E-CE57CAB81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69DD91-F7C6-4D39-98ED-54702188C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81D516-D953-47BD-88E4-665CA423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7BE70A-1F51-46AC-A854-986A03AE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F37074-5C0D-4248-81EC-3C6F5E91B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B9FB6A-005E-4E00-8BDE-19733108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3F8F715-105E-48CC-9712-56923C64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06C1B7-F898-4337-9FFE-FBB738A4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C95571-AF90-4646-8892-571A825B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E35221-5509-4DA7-9D5E-143FAB4C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CC79B0-0511-4FCA-93F3-2B8FB7365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E50184-4071-475D-AAED-568E1A41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7A2946-F451-402F-A963-E62BD0EE8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2EDDC-0ADA-4748-B230-3072E9170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AE05489-7E66-4710-B171-2D5D7875C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8191B8-FE38-4A7C-853D-90C8D2A6A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1D0194-D098-47C9-A4AD-5EBCDCCE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9A4784-E9F9-4739-9EA0-D9A1FCA9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C4BFD1-28FA-46CD-96EB-A02ED0BD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252DAC-4028-40D1-90F5-0E4FB0B0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69EF37-5E30-4074-84F0-F7194420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6779EB-FC76-4D96-A0F4-C476A4A1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DEFA58-11D1-4DE8-ADF5-B9C18AE1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6526A8-D8B4-411B-AB4E-D810E41E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5E1646-039E-4F26-9326-629983BB75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F6B0FC-32D9-4A51-A044-D58F1D19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BF3CCA-2E07-489C-AAFD-540624A3F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19AAFB-D9BE-4FD3-AAEE-EEEB931B3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87424E-5D64-4FF6-BDF2-EEF3AD072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DA6E7F-9D9B-4594-9FAF-F6C43E1B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90181F-9D97-4BAC-BFF4-DD786E13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BC7C57-BC1C-4CEC-9B3A-D1E7E957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394F4C7-E4B9-485B-A03C-AA2D71531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E1EBB9F-606F-4B21-91F8-8AA48296E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A6C20E-C5D7-4DEE-A504-EA90088F0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23FF49-4B0A-4BA4-B48D-A620169BB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B65276-49BF-4222-90FC-E90947EC5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520CA6-8806-45D3-A7B5-F826595D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7BF7F0-4EAD-4F8D-BE19-C3112E68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DBBD97-A719-4B44-AB58-C914BD999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E117AF-9109-471A-86C9-D87A7C994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530A61-DDEF-4612-B1EB-109B8196E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29DEE4-960C-4775-8A65-9FEDF483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0D691E-1EF0-45FC-B8E6-93008FBF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30FE91-15D9-45ED-871F-4D2CD1D1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C61732-0848-4099-8C75-6165C757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D45589-117E-4BE2-B332-54BF67E7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889BB8-26D3-4525-A5B0-5BDD0A8DE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6A4902-9AD6-4F54-93A1-7657EDF5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7693C8-E68C-4918-9489-4C13987C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1416FF-ED67-4E63-AAAA-206EBD54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E06240-B936-414B-A9D1-C77765736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19E335-130C-41E2-A652-DDFCF5CD7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E78D7D-03D5-4B58-B158-07957DF4A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EA48BC-F346-40F1-B0C7-3D22C2A8F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D74F1F-B460-4C5B-B805-6331F9FC2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D0A8A6-E114-47B6-8477-42D5B437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98F873-E8BC-4D75-B6E6-845CCD12F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0BBF0B-9A75-47BC-BDC7-047AF8B4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885B8E8-9806-4BDA-B25B-323982FE4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493E6F-0710-48B9-93A0-3BEA3EF9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D19676-E906-4954-BCB6-C99F97B23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40A3E2-DF17-44B7-8F8C-A0D9D724E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8DBFD5-4BEF-41E5-8D25-C7DE3162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E6745D-34BC-464F-833E-CB1878B13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B27906-5261-4132-B554-DB2128878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9D97B2-E8FB-4938-81A1-5955F77D8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797E29-A661-42CC-B17F-57D1A848A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473F6-675C-440C-BC8D-A3E35A46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06A7F2-0ED5-4FB0-9AA5-1EC151670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09C30B-3E2A-43D8-8A04-D17FE3AC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548CA5-D9D6-4AC0-980B-5086DB8D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1EA5D7-E4B9-4390-86BA-8FE212FA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FF71C7-35DB-4D96-85DE-0492B8352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118BEF-AC7E-4D7D-B7E6-7F810EEBA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696E2C-079A-4226-A45E-E01B1A48A8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9D4C5-122B-4367-AEC7-64DF1BDC4C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A2A29E-6AF9-44E5-A5C0-BE7E9819D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D4EE3-5811-413E-AAAB-9CC81040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D7A1B-61A6-406E-BDEF-C781D653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E53AD-D10A-41E0-ACC9-242C8F32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74CBC-A946-454A-8593-E378990C9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1690B-C9E9-463B-BC64-696518DF6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E90BA-88F8-486F-8CCD-C1E4F1BC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3E497-23AE-4E0F-A283-F9A808DE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46A29-83E3-44D7-9001-E9FE7DE8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A279B-BE05-4E95-B896-55FD5311D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6E103-4817-48BD-A3CA-B0D2A0EC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C7192-3CC9-4B9C-8AA5-79485FCC9F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54BDCA6-4D3C-4BA7-912E-0F7A34E3383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CAFFA-B66B-4086-8D3D-6A1591426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C44D05-F1EB-4625-A059-945865225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872936-5518-4084-9B45-EBCE4A158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CA0C62-9828-46BB-9A44-5E8A582A6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58A7A4-B8AF-42E1-B24B-559D6BDB2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B126D6-DA20-4B21-BBBF-078C35396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341B77-C3D1-4456-8625-A271BC4B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D70A5D-8BC0-4D79-AD93-642F567D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4B6619-32E1-4DEF-967F-978F488E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A1ED81-FE05-4307-895E-1277C5532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FE0FF02-5FD9-4AD2-87A7-4E8ABB49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06787-065D-45AD-A5C7-BA2AD04A1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4AB1CD-9400-43D5-BE40-E679DDE53D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842690-DD52-4BFA-91D8-757CC4BAE39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0A6833-AB23-4832-930C-50CB64A78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A3A8B3-7F62-4E22-99E5-081E9BAE0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341102-12E5-44F2-A088-73E4C7471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1037A1-4CD1-48FE-99B2-505766B85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245FD8-3D8B-4740-9C6A-51EE62C65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4285F8-AE07-4D90-98E4-C6ACF9DB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E22EEE-BF25-41E5-B5CB-490E38AEC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07A6EE-10F1-4DF4-A00F-30C2F370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5FE8B-0083-428D-81DE-C99AC303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3628A6-50A1-4FCA-85E3-461B9FB9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2D1DFBD-9FEF-4480-8605-853DDA15A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A247BA-7E0C-4165-9A02-D37F6CCF1F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E4B65-5100-4FEF-8BEB-713836E600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F2C0D-C2AD-4490-9628-195C88F4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A626F-F743-4FAB-B9B2-7C3DBAB0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D3473-47FE-48F3-9464-11972DBC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AADD6-3FAE-4185-BE96-4ADE431D6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E724B0-D3C5-44ED-9550-368E43F0B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3E1BA-8BEF-4366-BC21-621477BB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A3576-51EE-469E-ACA3-B94434964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2EF97-4B96-4043-A6AC-83C7DADBA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9AD29-2C60-4FA2-93E4-E02DB7090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AF0E8-064E-44CC-ACEC-F46CDCE60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9AA0A-F936-49C6-8E6C-D1413F23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A080C-F9AC-4220-A52F-9BDD063AB9B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48FBF33-2BD6-40A3-B3C4-4031FB53A9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89F5D5-2945-4374-89FD-7F7152282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B59A5F-8BF9-4698-8F8A-83CEC7FE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2A3BC6-303C-4D34-923B-7762ADB4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C5062B-A3A9-4D73-B385-A77E32A22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3D731-893C-4238-ACA3-400EA987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0090BC-EB70-4C85-8550-ADCCDD523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9DB5440-C4C8-4046-9C06-36E2C003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0CA4C8-B77E-4B98-9DC9-7AFB6E34F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EADCAB-F2FC-41E5-A5D8-7C53F460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07510D-6E51-4318-B49B-BF259891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15E8EB-2704-4803-A0FA-D1605D1D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2A2633-88A7-40B4-A547-B05E99E5DF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773BCEF-0080-4579-8031-D202588512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C4F6C69-70D1-451F-9EA2-100022CF5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C431ED-5A34-4D38-A4DD-E0F2FA63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2FAF-9016-4D34-A285-EF93F780FE4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74885-C500-4FC7-ABFE-13DEF465743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B50B-43E8-4B46-8429-DB8C50282F1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FC67-C9D4-4B11-BEAB-B99BB5CA016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3DC3-D9C3-4C7F-B80B-CF50E61CB7DE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EF0EE-2EDF-4DFC-9A97-B6132F0AE623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5CC7A-DC1E-480A-85B6-778914293A8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9674F-FD4C-40A0-8186-FC712EA4293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685E-C139-48D8-91B1-8B83ABF153E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FAF5-1B3C-4CEA-88A6-6E13DF1505B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0404-4DFD-4C3C-9D81-C091BC616DA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96A3-C0FD-4727-BFEC-083629B0D71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C9E5-54D1-4542-9A60-CC9F7850825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DA865-AFFA-445B-9876-E2B2C95690F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F701-1251-409D-898B-EAB06C1E4C6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B5BF-1C45-49C1-95EF-2FCD1434F5F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9005-EB49-4FFF-A61A-FAD6E857D36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53F0-33E1-4908-96C1-9113B503D1E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A6EF-A84C-4393-9C8E-07AD0A5A592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619B-5B93-496C-B011-9DB2D6D8DA6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DC964-2732-46CA-A5C1-7BC1F36432D9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CAEB-F895-49DA-9200-8A3453148F1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4AA5-7E67-459B-85D3-2C2901B8FD0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6DED-8BAD-46AC-BBD4-CFC559BBC9F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"/>
          <p:cNvGrpSpPr/>
          <p:nvPr/>
        </p:nvGrpSpPr>
        <p:grpSpPr>
          <a:xfrm>
            <a:off x="2284560" y="2448000"/>
            <a:ext cx="4475160" cy="360"/>
            <a:chOff x="2284560" y="2448000"/>
            <a:chExt cx="4475160" cy="360"/>
          </a:xfrm>
        </p:grpSpPr>
        <p:sp>
          <p:nvSpPr>
            <p:cNvPr id="987" name="Line 10"/>
            <p:cNvSpPr/>
            <p:nvPr/>
          </p:nvSpPr>
          <p:spPr>
            <a:xfrm>
              <a:off x="2284560" y="2448000"/>
              <a:ext cx="447516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 txBox="1"/>
            <p:nvPr/>
          </p:nvSpPr>
          <p:spPr>
            <a:xfrm>
              <a:off x="2284560" y="2448000"/>
              <a:ext cx="4475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9"/>
          <p:cNvSpPr/>
          <p:nvPr/>
        </p:nvSpPr>
        <p:spPr>
          <a:xfrm>
            <a:off x="-1163520" y="1744560"/>
            <a:ext cx="888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6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位数乘一位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5"/>
          <p:cNvSpPr/>
          <p:nvPr/>
        </p:nvSpPr>
        <p:spPr>
          <a:xfrm>
            <a:off x="1463760" y="2716200"/>
            <a:ext cx="55872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6"/>
          <p:cNvSpPr/>
          <p:nvPr/>
        </p:nvSpPr>
        <p:spPr>
          <a:xfrm>
            <a:off x="922320" y="2666880"/>
            <a:ext cx="7548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一 个 因 数 末 尾 有 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0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 乘 法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三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矩形 3"/>
          <p:cNvSpPr/>
          <p:nvPr/>
        </p:nvSpPr>
        <p:spPr>
          <a:xfrm>
            <a:off x="928800" y="619200"/>
            <a:ext cx="4572000" cy="29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口算复习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0×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00×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000×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矩形 4"/>
          <p:cNvSpPr/>
          <p:nvPr/>
        </p:nvSpPr>
        <p:spPr>
          <a:xfrm>
            <a:off x="4857840" y="1190520"/>
            <a:ext cx="285732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2×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20×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200×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51"/>
          <p:cNvSpPr/>
          <p:nvPr/>
        </p:nvSpPr>
        <p:spPr>
          <a:xfrm>
            <a:off x="2214720" y="1357200"/>
            <a:ext cx="920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6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51"/>
          <p:cNvSpPr/>
          <p:nvPr/>
        </p:nvSpPr>
        <p:spPr>
          <a:xfrm>
            <a:off x="5826240" y="1357200"/>
            <a:ext cx="920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4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51"/>
          <p:cNvSpPr/>
          <p:nvPr/>
        </p:nvSpPr>
        <p:spPr>
          <a:xfrm>
            <a:off x="2428920" y="1928880"/>
            <a:ext cx="920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6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Rectangle 51"/>
          <p:cNvSpPr/>
          <p:nvPr/>
        </p:nvSpPr>
        <p:spPr>
          <a:xfrm>
            <a:off x="2502000" y="2519280"/>
            <a:ext cx="1143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60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Rectangle 51"/>
          <p:cNvSpPr/>
          <p:nvPr/>
        </p:nvSpPr>
        <p:spPr>
          <a:xfrm>
            <a:off x="6000840" y="1927080"/>
            <a:ext cx="1071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48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Rectangle 51"/>
          <p:cNvSpPr/>
          <p:nvPr/>
        </p:nvSpPr>
        <p:spPr>
          <a:xfrm>
            <a:off x="6215040" y="2519280"/>
            <a:ext cx="1071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480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矩形 11"/>
          <p:cNvSpPr/>
          <p:nvPr/>
        </p:nvSpPr>
        <p:spPr>
          <a:xfrm>
            <a:off x="928800" y="3262320"/>
            <a:ext cx="635796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笔算复习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27×6          403×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7" name="组合 11"/>
          <p:cNvGrpSpPr/>
          <p:nvPr/>
        </p:nvGrpSpPr>
        <p:grpSpPr>
          <a:xfrm>
            <a:off x="1285920" y="4284720"/>
            <a:ext cx="1643040" cy="1571400"/>
            <a:chOff x="1285920" y="4284720"/>
            <a:chExt cx="1643040" cy="1571400"/>
          </a:xfrm>
        </p:grpSpPr>
        <p:sp>
          <p:nvSpPr>
            <p:cNvPr id="1008" name="TextBox 13"/>
            <p:cNvSpPr/>
            <p:nvPr/>
          </p:nvSpPr>
          <p:spPr>
            <a:xfrm>
              <a:off x="1285920" y="4284720"/>
              <a:ext cx="164304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2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2 7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×    6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1 3 6 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直接连接符 14"/>
            <p:cNvSpPr/>
            <p:nvPr/>
          </p:nvSpPr>
          <p:spPr>
            <a:xfrm>
              <a:off x="1428480" y="5499000"/>
              <a:ext cx="142884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0" name="组合 11"/>
          <p:cNvGrpSpPr/>
          <p:nvPr/>
        </p:nvGrpSpPr>
        <p:grpSpPr>
          <a:xfrm>
            <a:off x="3786120" y="4284720"/>
            <a:ext cx="1643040" cy="1571400"/>
            <a:chOff x="3786120" y="4284720"/>
            <a:chExt cx="1643040" cy="1571400"/>
          </a:xfrm>
        </p:grpSpPr>
        <p:sp>
          <p:nvSpPr>
            <p:cNvPr id="1011" name="TextBox 16"/>
            <p:cNvSpPr/>
            <p:nvPr/>
          </p:nvSpPr>
          <p:spPr>
            <a:xfrm>
              <a:off x="3786120" y="4284720"/>
              <a:ext cx="164304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4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0 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×    6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2 4 1 8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直接连接符 17"/>
            <p:cNvSpPr/>
            <p:nvPr/>
          </p:nvSpPr>
          <p:spPr>
            <a:xfrm>
              <a:off x="3928680" y="5499000"/>
              <a:ext cx="142884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Rectangle 51"/>
          <p:cNvSpPr/>
          <p:nvPr/>
        </p:nvSpPr>
        <p:spPr>
          <a:xfrm>
            <a:off x="2286000" y="4030560"/>
            <a:ext cx="1206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136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51"/>
          <p:cNvSpPr/>
          <p:nvPr/>
        </p:nvSpPr>
        <p:spPr>
          <a:xfrm>
            <a:off x="4794120" y="4030560"/>
            <a:ext cx="1206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=241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5" name="组合 2"/>
          <p:cNvGrpSpPr/>
          <p:nvPr/>
        </p:nvGrpSpPr>
        <p:grpSpPr>
          <a:xfrm>
            <a:off x="0" y="101520"/>
            <a:ext cx="2857680" cy="525600"/>
            <a:chOff x="0" y="101520"/>
            <a:chExt cx="2857680" cy="525600"/>
          </a:xfrm>
        </p:grpSpPr>
        <p:pic>
          <p:nvPicPr>
            <p:cNvPr id="1016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29240" y="101520"/>
              <a:ext cx="272844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17" name="组合 4"/>
            <p:cNvGrpSpPr/>
            <p:nvPr/>
          </p:nvGrpSpPr>
          <p:grpSpPr>
            <a:xfrm>
              <a:off x="0" y="197280"/>
              <a:ext cx="377640" cy="271800"/>
              <a:chOff x="0" y="197280"/>
              <a:chExt cx="377640" cy="271800"/>
            </a:xfrm>
          </p:grpSpPr>
          <p:sp>
            <p:nvSpPr>
              <p:cNvPr id="1018" name="椭圆 1"/>
              <p:cNvSpPr/>
              <p:nvPr/>
            </p:nvSpPr>
            <p:spPr>
              <a:xfrm rot="16200000">
                <a:off x="231840" y="363600"/>
                <a:ext cx="96120" cy="11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9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174600" y="337680"/>
                <a:ext cx="203040" cy="12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0" name="椭圆 29"/>
              <p:cNvSpPr/>
              <p:nvPr/>
            </p:nvSpPr>
            <p:spPr>
              <a:xfrm rot="16200000">
                <a:off x="231840" y="240480"/>
                <a:ext cx="96120" cy="114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1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174600" y="213120"/>
                <a:ext cx="203040" cy="125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2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55320"/>
                <a:ext cx="306360" cy="11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3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24360"/>
                <a:ext cx="306360" cy="11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4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8240"/>
                <a:ext cx="306360" cy="11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5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06360" cy="110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TextBox 2"/>
          <p:cNvSpPr/>
          <p:nvPr/>
        </p:nvSpPr>
        <p:spPr>
          <a:xfrm>
            <a:off x="750960" y="828720"/>
            <a:ext cx="8107200" cy="8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学校图书室买了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套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小小科学家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丛书，每套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8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元。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共花了多少钱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Rectangle 51"/>
          <p:cNvSpPr/>
          <p:nvPr/>
        </p:nvSpPr>
        <p:spPr>
          <a:xfrm>
            <a:off x="1857240" y="1927080"/>
            <a:ext cx="3222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280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0" lang="zh-CN" sz="25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    </a:t>
            </a:r>
            <a:r>
              <a:rPr b="0" lang="zh-CN" sz="2500" spc="-1" strike="noStrike">
                <a:solidFill>
                  <a:srgbClr val="ffffff"/>
                </a:solidFill>
                <a:latin typeface="宋体"/>
                <a:ea typeface="宋体"/>
              </a:rPr>
              <a:t>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51"/>
          <p:cNvSpPr/>
          <p:nvPr/>
        </p:nvSpPr>
        <p:spPr>
          <a:xfrm>
            <a:off x="3357720" y="1855800"/>
            <a:ext cx="920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84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 Box 138"/>
          <p:cNvSpPr/>
          <p:nvPr/>
        </p:nvSpPr>
        <p:spPr>
          <a:xfrm>
            <a:off x="2220840" y="4238640"/>
            <a:ext cx="3571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宋体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0" name="Group 133"/>
          <p:cNvGrpSpPr/>
          <p:nvPr/>
        </p:nvGrpSpPr>
        <p:grpSpPr>
          <a:xfrm>
            <a:off x="1473120" y="3824280"/>
            <a:ext cx="1955880" cy="854280"/>
            <a:chOff x="1473120" y="3824280"/>
            <a:chExt cx="1955880" cy="854280"/>
          </a:xfrm>
        </p:grpSpPr>
        <p:sp>
          <p:nvSpPr>
            <p:cNvPr id="1031" name="Text Box 136"/>
            <p:cNvSpPr/>
            <p:nvPr/>
          </p:nvSpPr>
          <p:spPr>
            <a:xfrm>
              <a:off x="1500120" y="4203720"/>
              <a:ext cx="18637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×       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Text Box 135"/>
            <p:cNvSpPr/>
            <p:nvPr/>
          </p:nvSpPr>
          <p:spPr>
            <a:xfrm>
              <a:off x="1958760" y="3824280"/>
              <a:ext cx="14702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2  8 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3" name=""/>
            <p:cNvGrpSpPr/>
            <p:nvPr/>
          </p:nvGrpSpPr>
          <p:grpSpPr>
            <a:xfrm>
              <a:off x="1473120" y="4610160"/>
              <a:ext cx="1884240" cy="7920"/>
              <a:chOff x="1473120" y="4610160"/>
              <a:chExt cx="1884240" cy="7920"/>
            </a:xfrm>
          </p:grpSpPr>
          <p:sp>
            <p:nvSpPr>
              <p:cNvPr id="1034" name="Line 137"/>
              <p:cNvSpPr/>
              <p:nvPr/>
            </p:nvSpPr>
            <p:spPr>
              <a:xfrm flipV="1">
                <a:off x="1473120" y="4610160"/>
                <a:ext cx="1884240" cy="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 txBox="1"/>
              <p:nvPr/>
            </p:nvSpPr>
            <p:spPr>
              <a:xfrm rot="10800000">
                <a:off x="1473120" y="4610160"/>
                <a:ext cx="1884240" cy="7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6" name="Text Box 134"/>
          <p:cNvSpPr/>
          <p:nvPr/>
        </p:nvSpPr>
        <p:spPr>
          <a:xfrm>
            <a:off x="1935000" y="4664160"/>
            <a:ext cx="32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 Box 134"/>
          <p:cNvSpPr/>
          <p:nvPr/>
        </p:nvSpPr>
        <p:spPr>
          <a:xfrm>
            <a:off x="2435400" y="4664160"/>
            <a:ext cx="323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Text Box 134"/>
          <p:cNvSpPr/>
          <p:nvPr/>
        </p:nvSpPr>
        <p:spPr>
          <a:xfrm>
            <a:off x="2935440" y="4664160"/>
            <a:ext cx="323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Box 21"/>
          <p:cNvSpPr/>
          <p:nvPr/>
        </p:nvSpPr>
        <p:spPr>
          <a:xfrm>
            <a:off x="4286160" y="2784600"/>
            <a:ext cx="2428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Text Box 138"/>
          <p:cNvSpPr/>
          <p:nvPr/>
        </p:nvSpPr>
        <p:spPr>
          <a:xfrm>
            <a:off x="5286240" y="4359240"/>
            <a:ext cx="3574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0000"/>
                </a:solidFill>
                <a:latin typeface="宋体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Group 133"/>
          <p:cNvGrpSpPr/>
          <p:nvPr/>
        </p:nvGrpSpPr>
        <p:grpSpPr>
          <a:xfrm>
            <a:off x="4467240" y="3855960"/>
            <a:ext cx="1955880" cy="854280"/>
            <a:chOff x="4467240" y="3855960"/>
            <a:chExt cx="1955880" cy="854280"/>
          </a:xfrm>
        </p:grpSpPr>
        <p:sp>
          <p:nvSpPr>
            <p:cNvPr id="1042" name="Text Box 136"/>
            <p:cNvSpPr/>
            <p:nvPr/>
          </p:nvSpPr>
          <p:spPr>
            <a:xfrm>
              <a:off x="4494240" y="4235400"/>
              <a:ext cx="164952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×    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Text Box 135"/>
            <p:cNvSpPr/>
            <p:nvPr/>
          </p:nvSpPr>
          <p:spPr>
            <a:xfrm>
              <a:off x="4952880" y="3855960"/>
              <a:ext cx="14702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2  8 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4" name=""/>
            <p:cNvGrpSpPr/>
            <p:nvPr/>
          </p:nvGrpSpPr>
          <p:grpSpPr>
            <a:xfrm>
              <a:off x="4467240" y="4641840"/>
              <a:ext cx="1884240" cy="7920"/>
              <a:chOff x="4467240" y="4641840"/>
              <a:chExt cx="1884240" cy="7920"/>
            </a:xfrm>
          </p:grpSpPr>
          <p:sp>
            <p:nvSpPr>
              <p:cNvPr id="1045" name="Line 137"/>
              <p:cNvSpPr/>
              <p:nvPr/>
            </p:nvSpPr>
            <p:spPr>
              <a:xfrm flipV="1">
                <a:off x="4467240" y="4641840"/>
                <a:ext cx="1884240" cy="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"/>
              <p:cNvSpPr txBox="1"/>
              <p:nvPr/>
            </p:nvSpPr>
            <p:spPr>
              <a:xfrm rot="10800000">
                <a:off x="4467240" y="4641840"/>
                <a:ext cx="1884240" cy="7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38880" bIns="-388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7" name="Text Box 134"/>
          <p:cNvSpPr/>
          <p:nvPr/>
        </p:nvSpPr>
        <p:spPr>
          <a:xfrm>
            <a:off x="4929120" y="4713120"/>
            <a:ext cx="32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Text Box 134"/>
          <p:cNvSpPr/>
          <p:nvPr/>
        </p:nvSpPr>
        <p:spPr>
          <a:xfrm>
            <a:off x="5429160" y="4713120"/>
            <a:ext cx="32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 Box 134"/>
          <p:cNvSpPr/>
          <p:nvPr/>
        </p:nvSpPr>
        <p:spPr>
          <a:xfrm>
            <a:off x="5929200" y="4713120"/>
            <a:ext cx="32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直接连接符 31"/>
          <p:cNvSpPr/>
          <p:nvPr/>
        </p:nvSpPr>
        <p:spPr>
          <a:xfrm>
            <a:off x="5856120" y="3854520"/>
            <a:ext cx="0" cy="1359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Box 32"/>
          <p:cNvSpPr/>
          <p:nvPr/>
        </p:nvSpPr>
        <p:spPr>
          <a:xfrm>
            <a:off x="2714760" y="5499000"/>
            <a:ext cx="4500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你喜欢哪一种写法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2" name="组合 2"/>
          <p:cNvGrpSpPr/>
          <p:nvPr/>
        </p:nvGrpSpPr>
        <p:grpSpPr>
          <a:xfrm>
            <a:off x="0" y="101520"/>
            <a:ext cx="2936880" cy="525600"/>
            <a:chOff x="0" y="101520"/>
            <a:chExt cx="2936880" cy="525600"/>
          </a:xfrm>
        </p:grpSpPr>
        <p:pic>
          <p:nvPicPr>
            <p:cNvPr id="1053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33560" y="101520"/>
              <a:ext cx="280332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54" name="组合 4"/>
            <p:cNvGrpSpPr/>
            <p:nvPr/>
          </p:nvGrpSpPr>
          <p:grpSpPr>
            <a:xfrm>
              <a:off x="0" y="197280"/>
              <a:ext cx="388080" cy="272160"/>
              <a:chOff x="0" y="197280"/>
              <a:chExt cx="388080" cy="272160"/>
            </a:xfrm>
          </p:grpSpPr>
          <p:sp>
            <p:nvSpPr>
              <p:cNvPr id="1055" name="椭圆 1"/>
              <p:cNvSpPr/>
              <p:nvPr/>
            </p:nvSpPr>
            <p:spPr>
              <a:xfrm rot="16200000">
                <a:off x="234000" y="363240"/>
                <a:ext cx="96480" cy="115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6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183240" y="334440"/>
                <a:ext cx="204840" cy="12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7" name="椭圆 29"/>
              <p:cNvSpPr/>
              <p:nvPr/>
            </p:nvSpPr>
            <p:spPr>
              <a:xfrm rot="16200000">
                <a:off x="234000" y="239400"/>
                <a:ext cx="96480" cy="115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58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183240" y="212760"/>
                <a:ext cx="204840" cy="12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9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52080"/>
                <a:ext cx="31644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0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21480"/>
                <a:ext cx="31644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1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7520"/>
                <a:ext cx="316440" cy="107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2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16440" cy="107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63" name="八边形 2"/>
          <p:cNvSpPr/>
          <p:nvPr/>
        </p:nvSpPr>
        <p:spPr>
          <a:xfrm>
            <a:off x="236520" y="828720"/>
            <a:ext cx="514440" cy="51732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4" name="组合 4"/>
          <p:cNvGrpSpPr/>
          <p:nvPr/>
        </p:nvGrpSpPr>
        <p:grpSpPr>
          <a:xfrm>
            <a:off x="4494240" y="2435400"/>
            <a:ext cx="3998880" cy="1230120"/>
            <a:chOff x="4494240" y="2435400"/>
            <a:chExt cx="3998880" cy="1230120"/>
          </a:xfrm>
        </p:grpSpPr>
        <p:sp>
          <p:nvSpPr>
            <p:cNvPr id="1065" name="AutoShape 27"/>
            <p:cNvSpPr/>
            <p:nvPr/>
          </p:nvSpPr>
          <p:spPr>
            <a:xfrm>
              <a:off x="4494240" y="2784240"/>
              <a:ext cx="2428920" cy="704160"/>
            </a:xfrm>
            <a:prstGeom prst="wedgeRoundRectCallout">
              <a:avLst>
                <a:gd name="adj1" fmla="val 61740"/>
                <a:gd name="adj2" fmla="val 3329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还可以这样写：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6" name="图片 3" descr="6)5][}VZ%@FXJ)FA]TI76$O"/>
            <p:cNvPicPr/>
            <p:nvPr/>
          </p:nvPicPr>
          <p:blipFill>
            <a:blip r:embed="rId8"/>
            <a:stretch/>
          </p:blipFill>
          <p:spPr>
            <a:xfrm>
              <a:off x="7339320" y="2435400"/>
              <a:ext cx="1153800" cy="12301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TextBox 2"/>
          <p:cNvSpPr/>
          <p:nvPr/>
        </p:nvSpPr>
        <p:spPr>
          <a:xfrm>
            <a:off x="285840" y="1065240"/>
            <a:ext cx="2428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列竖式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Box 1"/>
          <p:cNvSpPr/>
          <p:nvPr/>
        </p:nvSpPr>
        <p:spPr>
          <a:xfrm>
            <a:off x="285840" y="1994040"/>
            <a:ext cx="864396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420×6     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70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×5       130×9      260×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  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9" name="组合 11"/>
          <p:cNvGrpSpPr/>
          <p:nvPr/>
        </p:nvGrpSpPr>
        <p:grpSpPr>
          <a:xfrm>
            <a:off x="6572160" y="2851200"/>
            <a:ext cx="1643040" cy="1571400"/>
            <a:chOff x="6572160" y="2851200"/>
            <a:chExt cx="1643040" cy="1571400"/>
          </a:xfrm>
        </p:grpSpPr>
        <p:sp>
          <p:nvSpPr>
            <p:cNvPr id="1070" name="TextBox 5"/>
            <p:cNvSpPr/>
            <p:nvPr/>
          </p:nvSpPr>
          <p:spPr>
            <a:xfrm>
              <a:off x="6572160" y="2851200"/>
              <a:ext cx="164304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2 6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×    7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1 8 2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直接连接符 6"/>
            <p:cNvSpPr/>
            <p:nvPr/>
          </p:nvSpPr>
          <p:spPr>
            <a:xfrm>
              <a:off x="6786360" y="4065480"/>
              <a:ext cx="142884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2" name="组合 11"/>
          <p:cNvGrpSpPr/>
          <p:nvPr/>
        </p:nvGrpSpPr>
        <p:grpSpPr>
          <a:xfrm>
            <a:off x="4572000" y="2851200"/>
            <a:ext cx="1643040" cy="1571400"/>
            <a:chOff x="4572000" y="2851200"/>
            <a:chExt cx="1643040" cy="1571400"/>
          </a:xfrm>
        </p:grpSpPr>
        <p:sp>
          <p:nvSpPr>
            <p:cNvPr id="1073" name="TextBox 8"/>
            <p:cNvSpPr/>
            <p:nvPr/>
          </p:nvSpPr>
          <p:spPr>
            <a:xfrm>
              <a:off x="4572000" y="2851200"/>
              <a:ext cx="164304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1</a:t>
              </a: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3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×    9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1 1 7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直接连接符 9"/>
            <p:cNvSpPr/>
            <p:nvPr/>
          </p:nvSpPr>
          <p:spPr>
            <a:xfrm>
              <a:off x="4786200" y="4065480"/>
              <a:ext cx="142884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5" name="组合 10"/>
          <p:cNvGrpSpPr/>
          <p:nvPr/>
        </p:nvGrpSpPr>
        <p:grpSpPr>
          <a:xfrm>
            <a:off x="2286000" y="2994120"/>
            <a:ext cx="1643040" cy="1571400"/>
            <a:chOff x="2286000" y="2994120"/>
            <a:chExt cx="1643040" cy="1571400"/>
          </a:xfrm>
        </p:grpSpPr>
        <p:sp>
          <p:nvSpPr>
            <p:cNvPr id="1076" name="TextBox 11"/>
            <p:cNvSpPr/>
            <p:nvPr/>
          </p:nvSpPr>
          <p:spPr>
            <a:xfrm>
              <a:off x="2286000" y="2994120"/>
              <a:ext cx="164304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3 7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×    5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1 8 5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直接连接符 12"/>
            <p:cNvSpPr/>
            <p:nvPr/>
          </p:nvSpPr>
          <p:spPr>
            <a:xfrm>
              <a:off x="2357280" y="4137120"/>
              <a:ext cx="142884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8" name="组合 11"/>
          <p:cNvGrpSpPr/>
          <p:nvPr/>
        </p:nvGrpSpPr>
        <p:grpSpPr>
          <a:xfrm>
            <a:off x="285840" y="2851200"/>
            <a:ext cx="1643040" cy="1571400"/>
            <a:chOff x="285840" y="2851200"/>
            <a:chExt cx="1643040" cy="1571400"/>
          </a:xfrm>
        </p:grpSpPr>
        <p:sp>
          <p:nvSpPr>
            <p:cNvPr id="1079" name="TextBox 14"/>
            <p:cNvSpPr/>
            <p:nvPr/>
          </p:nvSpPr>
          <p:spPr>
            <a:xfrm>
              <a:off x="285840" y="2851200"/>
              <a:ext cx="164304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4 2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×    6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2 5 2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直接连接符 15"/>
            <p:cNvSpPr/>
            <p:nvPr/>
          </p:nvSpPr>
          <p:spPr>
            <a:xfrm>
              <a:off x="357120" y="3994200"/>
              <a:ext cx="142884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1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82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3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84" name="椭圆 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5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6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7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8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9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0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1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92" name="AutoShape 63"/>
          <p:cNvSpPr/>
          <p:nvPr/>
        </p:nvSpPr>
        <p:spPr>
          <a:xfrm>
            <a:off x="506520" y="6480"/>
            <a:ext cx="2404800" cy="788760"/>
          </a:xfrm>
          <a:custGeom>
            <a:avLst/>
            <a:gdLst>
              <a:gd name="textAreaLeft" fmla="*/ 0 w 2404800"/>
              <a:gd name="textAreaRight" fmla="*/ 2405160 w 2404800"/>
              <a:gd name="textAreaTop" fmla="*/ 0 h 788760"/>
              <a:gd name="textAreaBottom" fmla="*/ 789120 h 78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10" y="0"/>
                </a:lnTo>
                <a:lnTo>
                  <a:pt x="21600" y="10800"/>
                </a:lnTo>
                <a:lnTo>
                  <a:pt x="1621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文本框 2"/>
          <p:cNvSpPr/>
          <p:nvPr/>
        </p:nvSpPr>
        <p:spPr>
          <a:xfrm>
            <a:off x="1341360" y="1994040"/>
            <a:ext cx="115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=25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文本框 3"/>
          <p:cNvSpPr/>
          <p:nvPr/>
        </p:nvSpPr>
        <p:spPr>
          <a:xfrm>
            <a:off x="3416400" y="1994040"/>
            <a:ext cx="115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=18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文本框 4"/>
          <p:cNvSpPr/>
          <p:nvPr/>
        </p:nvSpPr>
        <p:spPr>
          <a:xfrm>
            <a:off x="5416560" y="1994040"/>
            <a:ext cx="115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=11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文本框 6"/>
          <p:cNvSpPr/>
          <p:nvPr/>
        </p:nvSpPr>
        <p:spPr>
          <a:xfrm>
            <a:off x="7445520" y="1994040"/>
            <a:ext cx="115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=18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7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98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9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100" name="椭圆 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1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2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3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4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5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6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07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08" name="文本框 2"/>
          <p:cNvSpPr/>
          <p:nvPr/>
        </p:nvSpPr>
        <p:spPr>
          <a:xfrm>
            <a:off x="1333440" y="1163520"/>
            <a:ext cx="617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一个因数末尾有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的乘法的计算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文本框 3"/>
          <p:cNvSpPr/>
          <p:nvPr/>
        </p:nvSpPr>
        <p:spPr>
          <a:xfrm>
            <a:off x="615960" y="1681200"/>
            <a:ext cx="806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个因数末尾有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乘法，可先用一位数去乘多位数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前面的数，再看因数末尾有几个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，就在积的末尾添几个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0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11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12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113" name="椭圆 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4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5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16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7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8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9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0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21" name="文本框 99"/>
          <p:cNvSpPr/>
          <p:nvPr/>
        </p:nvSpPr>
        <p:spPr>
          <a:xfrm>
            <a:off x="425520" y="858960"/>
            <a:ext cx="8508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直接写出得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00×5=            90×4=         240×2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200×4=           320×2=        130×3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00×5=            140×5=        250×8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文本框 2"/>
          <p:cNvSpPr/>
          <p:nvPr/>
        </p:nvSpPr>
        <p:spPr>
          <a:xfrm>
            <a:off x="1879560" y="2070000"/>
            <a:ext cx="11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仿宋"/>
              </a:rPr>
              <a:t>2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文本框 3"/>
          <p:cNvSpPr/>
          <p:nvPr/>
        </p:nvSpPr>
        <p:spPr>
          <a:xfrm>
            <a:off x="5227560" y="2070000"/>
            <a:ext cx="11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仿宋"/>
              </a:rPr>
              <a:t>3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文本框 4"/>
          <p:cNvSpPr/>
          <p:nvPr/>
        </p:nvSpPr>
        <p:spPr>
          <a:xfrm>
            <a:off x="7816680" y="207000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仿宋"/>
              </a:rPr>
              <a:t>4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文本框 6"/>
          <p:cNvSpPr/>
          <p:nvPr/>
        </p:nvSpPr>
        <p:spPr>
          <a:xfrm>
            <a:off x="1957320" y="2906640"/>
            <a:ext cx="11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仿宋"/>
              </a:rPr>
              <a:t>4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文本框 8"/>
          <p:cNvSpPr/>
          <p:nvPr/>
        </p:nvSpPr>
        <p:spPr>
          <a:xfrm>
            <a:off x="5227560" y="2906640"/>
            <a:ext cx="11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仿宋"/>
              </a:rPr>
              <a:t>6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文本框 9"/>
          <p:cNvSpPr/>
          <p:nvPr/>
        </p:nvSpPr>
        <p:spPr>
          <a:xfrm>
            <a:off x="7848720" y="2979720"/>
            <a:ext cx="11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仿宋"/>
              </a:rPr>
              <a:t>3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文本框 10"/>
          <p:cNvSpPr/>
          <p:nvPr/>
        </p:nvSpPr>
        <p:spPr>
          <a:xfrm>
            <a:off x="1879560" y="3763800"/>
            <a:ext cx="11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仿宋"/>
              </a:rPr>
              <a:t>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文本框 11"/>
          <p:cNvSpPr/>
          <p:nvPr/>
        </p:nvSpPr>
        <p:spPr>
          <a:xfrm>
            <a:off x="5227560" y="3763800"/>
            <a:ext cx="11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仿宋"/>
              </a:rPr>
              <a:t>7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文本框 12"/>
          <p:cNvSpPr/>
          <p:nvPr/>
        </p:nvSpPr>
        <p:spPr>
          <a:xfrm>
            <a:off x="7848720" y="3763800"/>
            <a:ext cx="11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仿宋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1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32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3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134" name="椭圆 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5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6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7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8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9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0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1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42" name="文本框 99"/>
          <p:cNvSpPr/>
          <p:nvPr/>
        </p:nvSpPr>
        <p:spPr>
          <a:xfrm>
            <a:off x="279360" y="784080"/>
            <a:ext cx="85597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列竖式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50×4=            270×6=          240×3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90×3=            280×4=         750×7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3" name="组合 11"/>
          <p:cNvGrpSpPr/>
          <p:nvPr/>
        </p:nvGrpSpPr>
        <p:grpSpPr>
          <a:xfrm>
            <a:off x="279360" y="1846440"/>
            <a:ext cx="1643040" cy="1571400"/>
            <a:chOff x="279360" y="1846440"/>
            <a:chExt cx="1643040" cy="1571400"/>
          </a:xfrm>
        </p:grpSpPr>
        <p:sp>
          <p:nvSpPr>
            <p:cNvPr id="1144" name="TextBox 14"/>
            <p:cNvSpPr/>
            <p:nvPr/>
          </p:nvSpPr>
          <p:spPr>
            <a:xfrm>
              <a:off x="279360" y="1846440"/>
              <a:ext cx="164304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3 5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×    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1 4 0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直接连接符 15"/>
            <p:cNvSpPr/>
            <p:nvPr/>
          </p:nvSpPr>
          <p:spPr>
            <a:xfrm>
              <a:off x="350640" y="2989440"/>
              <a:ext cx="142884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6" name="文本框 2"/>
          <p:cNvSpPr/>
          <p:nvPr/>
        </p:nvSpPr>
        <p:spPr>
          <a:xfrm>
            <a:off x="1906560" y="1641600"/>
            <a:ext cx="13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7" name="组合 11"/>
          <p:cNvGrpSpPr/>
          <p:nvPr/>
        </p:nvGrpSpPr>
        <p:grpSpPr>
          <a:xfrm>
            <a:off x="3516480" y="1846440"/>
            <a:ext cx="1643040" cy="1571400"/>
            <a:chOff x="3516480" y="1846440"/>
            <a:chExt cx="1643040" cy="1571400"/>
          </a:xfrm>
        </p:grpSpPr>
        <p:sp>
          <p:nvSpPr>
            <p:cNvPr id="1148" name="TextBox 14"/>
            <p:cNvSpPr/>
            <p:nvPr/>
          </p:nvSpPr>
          <p:spPr>
            <a:xfrm>
              <a:off x="3516480" y="1846440"/>
              <a:ext cx="164304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2 7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×    6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1 6 2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直接连接符 15"/>
            <p:cNvSpPr/>
            <p:nvPr/>
          </p:nvSpPr>
          <p:spPr>
            <a:xfrm>
              <a:off x="3587760" y="2989440"/>
              <a:ext cx="142884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0" name="文本框 8"/>
          <p:cNvSpPr/>
          <p:nvPr/>
        </p:nvSpPr>
        <p:spPr>
          <a:xfrm>
            <a:off x="5016600" y="1641600"/>
            <a:ext cx="13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6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1" name="组合 11"/>
          <p:cNvGrpSpPr/>
          <p:nvPr/>
        </p:nvGrpSpPr>
        <p:grpSpPr>
          <a:xfrm>
            <a:off x="6912000" y="1846440"/>
            <a:ext cx="1643040" cy="1571400"/>
            <a:chOff x="6912000" y="1846440"/>
            <a:chExt cx="1643040" cy="1571400"/>
          </a:xfrm>
        </p:grpSpPr>
        <p:sp>
          <p:nvSpPr>
            <p:cNvPr id="1152" name="TextBox 14"/>
            <p:cNvSpPr/>
            <p:nvPr/>
          </p:nvSpPr>
          <p:spPr>
            <a:xfrm>
              <a:off x="6912000" y="1846440"/>
              <a:ext cx="1643040" cy="15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2 4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×    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7 2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直接连接符 15"/>
            <p:cNvSpPr/>
            <p:nvPr/>
          </p:nvSpPr>
          <p:spPr>
            <a:xfrm>
              <a:off x="6983280" y="2989440"/>
              <a:ext cx="142884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4" name="文本框 12"/>
          <p:cNvSpPr/>
          <p:nvPr/>
        </p:nvSpPr>
        <p:spPr>
          <a:xfrm>
            <a:off x="8094600" y="1535040"/>
            <a:ext cx="13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7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5" name="组合 11"/>
          <p:cNvGrpSpPr/>
          <p:nvPr/>
        </p:nvGrpSpPr>
        <p:grpSpPr>
          <a:xfrm>
            <a:off x="351000" y="4076640"/>
            <a:ext cx="1643040" cy="1571760"/>
            <a:chOff x="351000" y="4076640"/>
            <a:chExt cx="1643040" cy="1571760"/>
          </a:xfrm>
        </p:grpSpPr>
        <p:sp>
          <p:nvSpPr>
            <p:cNvPr id="1156" name="TextBox 14"/>
            <p:cNvSpPr/>
            <p:nvPr/>
          </p:nvSpPr>
          <p:spPr>
            <a:xfrm>
              <a:off x="351000" y="4076640"/>
              <a:ext cx="164304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3 9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×    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1 1 7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直接连接符 15"/>
            <p:cNvSpPr/>
            <p:nvPr/>
          </p:nvSpPr>
          <p:spPr>
            <a:xfrm>
              <a:off x="422280" y="5220000"/>
              <a:ext cx="142884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8" name="文本框 16"/>
          <p:cNvSpPr/>
          <p:nvPr/>
        </p:nvSpPr>
        <p:spPr>
          <a:xfrm>
            <a:off x="1851120" y="361944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1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9" name="组合 11"/>
          <p:cNvGrpSpPr/>
          <p:nvPr/>
        </p:nvGrpSpPr>
        <p:grpSpPr>
          <a:xfrm>
            <a:off x="3736800" y="4178160"/>
            <a:ext cx="1643400" cy="1571760"/>
            <a:chOff x="3736800" y="4178160"/>
            <a:chExt cx="1643400" cy="1571760"/>
          </a:xfrm>
        </p:grpSpPr>
        <p:sp>
          <p:nvSpPr>
            <p:cNvPr id="1160" name="TextBox 14"/>
            <p:cNvSpPr/>
            <p:nvPr/>
          </p:nvSpPr>
          <p:spPr>
            <a:xfrm>
              <a:off x="3736800" y="4178160"/>
              <a:ext cx="164340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2 8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×    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1 1 2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直接连接符 19"/>
            <p:cNvSpPr/>
            <p:nvPr/>
          </p:nvSpPr>
          <p:spPr>
            <a:xfrm>
              <a:off x="3808080" y="5321520"/>
              <a:ext cx="142920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2" name="文本框 20"/>
          <p:cNvSpPr/>
          <p:nvPr/>
        </p:nvSpPr>
        <p:spPr>
          <a:xfrm>
            <a:off x="5124600" y="3619440"/>
            <a:ext cx="112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3" name="组合 11"/>
          <p:cNvGrpSpPr/>
          <p:nvPr/>
        </p:nvGrpSpPr>
        <p:grpSpPr>
          <a:xfrm>
            <a:off x="7083360" y="4178160"/>
            <a:ext cx="1643040" cy="1571760"/>
            <a:chOff x="7083360" y="4178160"/>
            <a:chExt cx="1643040" cy="1571760"/>
          </a:xfrm>
        </p:grpSpPr>
        <p:sp>
          <p:nvSpPr>
            <p:cNvPr id="1164" name="TextBox 14"/>
            <p:cNvSpPr/>
            <p:nvPr/>
          </p:nvSpPr>
          <p:spPr>
            <a:xfrm>
              <a:off x="7083360" y="4178160"/>
              <a:ext cx="1643040" cy="157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 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7 5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×    7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宋体"/>
                </a:rPr>
                <a:t>5 2 5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直接连接符 23"/>
            <p:cNvSpPr/>
            <p:nvPr/>
          </p:nvSpPr>
          <p:spPr>
            <a:xfrm>
              <a:off x="7154640" y="5321520"/>
              <a:ext cx="142884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6" name="文本框 24"/>
          <p:cNvSpPr/>
          <p:nvPr/>
        </p:nvSpPr>
        <p:spPr>
          <a:xfrm>
            <a:off x="7943760" y="361944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2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7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68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69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170" name="椭圆 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1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2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3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4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5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6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7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78" name="文本框 99"/>
          <p:cNvSpPr/>
          <p:nvPr/>
        </p:nvSpPr>
        <p:spPr>
          <a:xfrm>
            <a:off x="179280" y="1008000"/>
            <a:ext cx="8925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李叔叔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打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2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字，他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能打多少个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文本框 2"/>
          <p:cNvSpPr/>
          <p:nvPr/>
        </p:nvSpPr>
        <p:spPr>
          <a:xfrm>
            <a:off x="1871640" y="224172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20×5=600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（个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文本框 3"/>
          <p:cNvSpPr/>
          <p:nvPr/>
        </p:nvSpPr>
        <p:spPr>
          <a:xfrm>
            <a:off x="1378080" y="3195720"/>
            <a:ext cx="470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答：他</a:t>
            </a: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分钟能打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00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个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1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82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83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184" name="椭圆 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5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6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7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8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9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0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91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92" name="文本框 99"/>
          <p:cNvSpPr/>
          <p:nvPr/>
        </p:nvSpPr>
        <p:spPr>
          <a:xfrm>
            <a:off x="365040" y="895320"/>
            <a:ext cx="844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33200" indent="-13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一台电视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8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元，实验小学要买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台这样的电视机，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00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元钱，够吗？如果不够，还差多少钱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3200" indent="-133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文本框 2"/>
          <p:cNvSpPr/>
          <p:nvPr/>
        </p:nvSpPr>
        <p:spPr>
          <a:xfrm>
            <a:off x="1871640" y="2241720"/>
            <a:ext cx="323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80×9=6120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文本框 3"/>
          <p:cNvSpPr/>
          <p:nvPr/>
        </p:nvSpPr>
        <p:spPr>
          <a:xfrm>
            <a:off x="1911240" y="2955960"/>
            <a:ext cx="315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000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＜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文本框 4"/>
          <p:cNvSpPr/>
          <p:nvPr/>
        </p:nvSpPr>
        <p:spPr>
          <a:xfrm>
            <a:off x="1363680" y="423216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答：不够。还差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20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文本框 6"/>
          <p:cNvSpPr/>
          <p:nvPr/>
        </p:nvSpPr>
        <p:spPr>
          <a:xfrm>
            <a:off x="1427040" y="3489480"/>
            <a:ext cx="372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6120-6000=120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（元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6T11:02:33Z</dcterms:created>
  <dc:creator/>
  <dc:description/>
  <dc:language>en-US</dc:language>
  <cp:lastModifiedBy>万润仪器贸易公司</cp:lastModifiedBy>
  <dcterms:modified xsi:type="dcterms:W3CDTF">2020-08-21T01:25:25Z</dcterms:modified>
  <cp:revision>2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